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8851-900A-4D51-AB40-2177C65D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C6F-1F5F-4413-8942-E23AFCD0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BE0-DF4E-4AA8-826D-91553947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0D3-0D2F-4F8F-BAB9-A09A2A6F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5726-AF77-48D9-93D3-4F923500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C90-C4EA-46DC-B347-509F36FE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7D27-36BF-4F79-AE31-F2E71135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B4B-A643-45FB-98AF-0AF14F58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F1C7-C966-4612-8037-0EBD982D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41D-2313-45BC-A741-A2155E2A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3DA-4579-43CE-BFE5-C5B74AC6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DCCF-E011-4BFC-A87A-B9795341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9B9F-4EEC-4349-88B9-EFB95EBF9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the Distributive Prop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7480" y="2220840"/>
            <a:ext cx="49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1: Using the Order of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M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15328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686800" cy="952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666880" y="22860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22860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153280" y="2286000"/>
            <a:ext cx="5335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87771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9280" y="239760"/>
            <a:ext cx="503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2: Using the Distributive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6084720" cy="1739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5520" y="9907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( 2 + 5) = 3 (2) + 3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001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53452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2840" y="2325600"/>
            <a:ext cx="57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we need the order of oper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00:01:54Z</dcterms:created>
  <dc:creator>Graham</dc:creator>
  <dc:description/>
  <dc:language>en-US</dc:language>
  <cp:lastModifiedBy>Graham</cp:lastModifiedBy>
  <dcterms:modified xsi:type="dcterms:W3CDTF">2011-08-31T00:01:59Z</dcterms:modified>
  <cp:revision>1</cp:revision>
  <dc:subject/>
  <dc:title>Lesson 1.9 Order of Operations and the Distributive Property</dc:title>
</cp:coreProperties>
</file>